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101-CD88-42A4-8352-9A6A2D83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D91-DA4E-41FD-9E81-C15C74A4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B3C-FEFF-496C-865A-9656F807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5BE-3A44-4543-9BCD-E7DE5931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D81C-1376-4DA3-84E7-A4FB6B2E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F25C-8AB4-41A9-83C3-5F8CF304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F83-C10D-439E-A955-7E3BD64F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248C-E40A-4BFC-BC8A-40153262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AF9-7AA0-4BE0-A8D2-45C78E6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EBE7-FF7E-4A73-BDE4-8380061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6A48-42D7-46CF-98E3-E0A035A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542-7C0A-4A00-8EB1-F4BEBEA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EA0D-0A55-44F4-9AE3-EF9303C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A6C-241C-42CE-AE37-9A36F84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D9B-3D3D-4EF0-BB73-C830233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2D2C-CA2B-4C3A-9146-77D112BB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92F-1C8D-4B6B-B692-D459A6C4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5CDFD-8168-473B-8CE9-FFDE0089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18ABC-3473-44C5-B9A7-26851D5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510F8-A753-40AB-A911-D9D8598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67113-3986-426B-A294-0DA8744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E09C8-492A-4674-95F9-810D8A1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E12-4BCC-4377-9788-B010823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32E1D-4980-401F-A632-C2899399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E6A7C-9904-4FAF-9ADB-4071F03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66909-6492-4F72-AAA3-88FCC71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36B56-0D30-4F8B-A21A-6307756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2E06-05D6-4DF4-9D74-D38EB063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482A-53E9-4583-A2C0-BB4D0710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A1F8A-2E7F-49E5-B994-848A2F1D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7A4B-3C2E-4C1F-8CBE-E3748F7F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F280-2463-4E95-990C-4D1E840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B24D-9CDE-4C09-8EF2-F2225AB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6C4-631A-471C-89F6-A03626C8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F137-FBA1-43EF-BA27-6B4F58E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B177-4F15-4FFD-960B-17D2761A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9515-2CF8-4D79-9D53-926A70E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11C1-CDBF-4144-9DEB-0CB4F11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0F69-1A32-4442-ACDA-569EC3C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62CE-73F2-47F0-8122-84C0033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C7AC-053F-4F78-B88F-95231F8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3FFD-74E0-4ED8-9837-1EE330EB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747F-4865-4E5A-8C16-171C3444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E85-A871-449F-9F91-43CBFD0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5EE-DDB3-478C-AEAD-B493523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1E4-2853-4604-9B82-6091AA8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AAF-FCA6-4A09-9DFA-63F6861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164-B42D-42CA-9479-01DB10A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515-3863-4251-A3CD-62695513B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1A1D-ED6C-46A9-AFE2-94BF2E715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2B26-39C1-4B04-9BCD-DEEAC074F7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B51-2B06-456C-963F-DBDC0EFD2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4" descr="Porträt_des_Komponisten_Pjotr_I._Tschaikowski_(1840-1893).jpg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Пётр Ильич Чайковский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542880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Georgia"/>
              </a:rPr>
              <a:t>25 апреля (7 мая) 1840, Воткинск, Вятская губерния, Российская империя — 25 октября (6 ноября) 1893, Санкт-Петербур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Mogila-Petra-Il_icha-Chajkovsk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8760" y="6000840"/>
            <a:ext cx="71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Петр Ильич Чайковски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похоронен на Тихвинском кладбище в Санкт-Петербург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785840" y="642960"/>
            <a:ext cx="43578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ётр Ильич Чайковский был замечательным человеком. Свое видение окружающего он выразил в музык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лся 25 апреля 1840 года в селении при Камско-Воткинском заводе Вятской губернии (ныне город Воткинск, Удмуртия). Родители Петра Ильича любили музыку. Его мать играла на фортепьяно и пел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1850 году родители отправляют Чайковского в Императорское училище правоведения, находившееся рядом с  улицей, ныне носящей имя композитора. Именно там он начал серьезно заниматься музыкой, которую там преподавали факультативно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йковский был хорошим пианистом и импровизатор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Рисунок 3" descr="Der_junge_Tschaikowski.jpg"/>
          <p:cNvPicPr/>
          <p:nvPr/>
        </p:nvPicPr>
        <p:blipFill>
          <a:blip r:embed="rId1"/>
          <a:stretch/>
        </p:blipFill>
        <p:spPr>
          <a:xfrm>
            <a:off x="0" y="507960"/>
            <a:ext cx="4857840" cy="6350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749880" y="57168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Georgia"/>
              </a:rPr>
              <a:t>Чайковский в молод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Содержимое 5" descr="Tchaykovsky_Mosc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Даты творческой биограф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10000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66 – дебютировал перед московской и петербургской публикой увертюрой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F-dur.;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начал Первую Симфони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67 – исполнение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ndante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 скерцо из Первой симфонии в Русском музыкальном обществе в Санкт-Петербурге. Также дописал увертюру на датский гимн и ряд фортепьянных пьес: «Воспоминание о Гапсале». Начал работу над оперой «Воевода»; в Москве, в симфоническом собрании, были исполнены танцы из неё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68 год — в симфоническом собрании в Москве русского музыкального общества с большим успехом исполнена Первая симфония. С недовольством относился Чайковский к своему симфоническому произведению «Фатум» (1868), исполнявшемуся как в Москве, так и в Петербург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0 января 1869 года в Большом театре в Москве — премьера оперы «Воевода». Либретто — композитора и А. Н. Островского по его пьесе («Сон на Волге»). Дирижёр — Мертен. В ролях: Нечай Шалыгин — Финокки, Влас Дюжой — Радонежский, Настасья — Анненская, Марья Власьевна — Меньшикова, Прасковья Власьевна — Кроненберг, Степан Бастрюков — Раппорт, Дубровин — Демидов, Олёна — Иванова, Резвый — Божановский, Шут — Лавров, Недвига — Розанова, новый Воевода — Корин). В 1870-х годах Чайковский уничтожил оперу, сохранив только небольшую часть материал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Tchaikovsky_monument_Moscow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1869 году закончена опера «Ундина», которая не ставилась. Она уничтожена автором в 1873 году, за исключением некоторых номеров, вошедших впоследствии в другие сочинения. Осенью написана увертюра-фантазия «Ромео и Джульетта». Написано шесть романсов, из которых «Нет, только тот», «И больно, и сладко», «Слеза дрожит», «Отчего», «Ни слова, о друг мой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871 год — первый квартет D-du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870—1872 годы — сочинена опера «Опричник», собственное либретто по повести И. И. Лажечнико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1 мая 1872 года — состоялась премьера кантаты «В память 200-летия рождения Петра Великого», написанной по заказу и специально к открытию Политехнической выставки 1872 год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873 год — симфоническая фантазия «Буря». А также музыка для весенней сказки «Снегурочка» А. Н. Островского в Большом театр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2 апреля 1874 года в Мариинском театре премьера оперы «Опричник» (дирижёр Направник; Жемчужный — Васильев 1-й, Наталья — Рааб, Митьков — Соболев, Морозова — Крутикова, Андрей — Орлов, Басманов —           Васильев  2-й, Вязьминский — Мельников, Захарьевна — Шредер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4 мая 1875 года в Большом театре постановка оперы «Опричник» (дирижёр Мертен; Жемчужный — Демидов, Наталья — Смельская, Морозова — Кадмина, Андрей — Додонов, Вязьминский — Радонежский, Басманов — Аристова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875 год — на конкурсе русского музыкального общества опере «Кузнец Вакула» присуждена первая прем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a6a6"/>
                </a:solidFill>
                <a:latin typeface="Trebuchet MS"/>
              </a:rPr>
              <a:t>Основные произвед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Содержимое 3" descr="418px-Федецкий_П.Чайковский_Харьков_1893.jpg"/>
          <p:cNvPicPr/>
          <p:nvPr/>
        </p:nvPicPr>
        <p:blipFill>
          <a:blip r:embed="rId1"/>
          <a:stretch/>
        </p:blipFill>
        <p:spPr>
          <a:xfrm>
            <a:off x="0" y="785880"/>
            <a:ext cx="5040360" cy="37926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5072040" y="714240"/>
            <a:ext cx="40719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пер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оевода (1868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Ундина (1869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причник (1872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Евгений Онегин (1878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рлеанская дева (1879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азепа (1883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еревички (1885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Чародейка (188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иковая дама (1890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Иоланта (1891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Бале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Лебединое озеро (1877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пящая красавица (1889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Щелкунчик (1892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0" y="4572000"/>
            <a:ext cx="5000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мфон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1 «Зимние грезы»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13 (1866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2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17 (1872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3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29 (1875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4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36 (1878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анфред» — симфония (1885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5 (1888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мфония № 6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74 (1893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4572000" y="5288040"/>
            <a:ext cx="4572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юи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юита № 1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43 (1879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юита № 2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53 (1883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юита № 3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55 (1884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юита № 4 Моцартиана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61 (1887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Щелкунчик, сюита для балета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p. 71a (1892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RR5216-0031R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5000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некоторых произведениях Чайковского источником сюжета являются литературные произвед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Евгений Онегин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одноименному произведению А.С.Пушкин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Мазеп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поэме «Полтава» А.С.Пушки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иковая Дам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одноименной повести А.С.Пушки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пящая Красавиц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сказке Ш.Перро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Щелкунчи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сказке Э. Т. А. Гофма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рлеанская Дев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о одноименной драме Ф.Шиллер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Содержимое 3" descr="Nutcracker_-1890.JPG"/>
          <p:cNvPicPr/>
          <p:nvPr/>
        </p:nvPicPr>
        <p:blipFill>
          <a:blip r:embed="rId1"/>
          <a:stretch/>
        </p:blipFill>
        <p:spPr>
          <a:xfrm>
            <a:off x="0" y="0"/>
            <a:ext cx="4676760" cy="3357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Korsov_Mazeppa_1884_Moscow.jpg"/>
          <p:cNvPicPr/>
          <p:nvPr/>
        </p:nvPicPr>
        <p:blipFill>
          <a:blip r:embed="rId2"/>
          <a:stretch/>
        </p:blipFill>
        <p:spPr>
          <a:xfrm>
            <a:off x="4338720" y="0"/>
            <a:ext cx="480528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-120600" y="414324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рагмент спектакля «Щелкунчик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остановке Императорского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риинского театра, 189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36" name="Прямая со стрелкой 9"/>
          <p:cNvCxnSpPr/>
          <p:nvPr/>
        </p:nvCxnSpPr>
        <p:spPr>
          <a:xfrm flipV="1">
            <a:off x="355680" y="3430080"/>
            <a:ext cx="2160" cy="5724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37" name="Прямоугольник 10"/>
          <p:cNvSpPr/>
          <p:nvPr/>
        </p:nvSpPr>
        <p:spPr>
          <a:xfrm>
            <a:off x="0" y="55720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гомир Корсов в роли Мазепы, Большой театр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осква, 188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38" name="Прямая со стрелкой 12"/>
          <p:cNvCxnSpPr>
            <a:stCxn id="237" idx="3"/>
          </p:cNvCxnSpPr>
          <p:nvPr/>
        </p:nvCxnSpPr>
        <p:spPr>
          <a:xfrm>
            <a:off x="3714840" y="6033960"/>
            <a:ext cx="643320" cy="388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7" descr="62469184_imag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4" descr="Tchaikovsky_and_the_Figners_1890.jpg"/>
          <p:cNvPicPr/>
          <p:nvPr/>
        </p:nvPicPr>
        <p:blipFill>
          <a:blip r:embed="rId2"/>
          <a:stretch/>
        </p:blipFill>
        <p:spPr>
          <a:xfrm>
            <a:off x="6199200" y="0"/>
            <a:ext cx="2944800" cy="278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Sleeping_beauty_cast.jpg"/>
          <p:cNvPicPr/>
          <p:nvPr/>
        </p:nvPicPr>
        <p:blipFill>
          <a:blip r:embed="rId3"/>
          <a:stretch/>
        </p:blipFill>
        <p:spPr>
          <a:xfrm>
            <a:off x="0" y="4840200"/>
            <a:ext cx="3071880" cy="2017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7"/>
          <p:cNvSpPr/>
          <p:nvPr/>
        </p:nvSpPr>
        <p:spPr>
          <a:xfrm>
            <a:off x="4572000" y="2928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П. И. Чайковский и супруги Фигнер, исполнители главных партий на премьере оперы «Пиковая дама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-66240" y="442908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Спящая Красавица, 189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3" descr="Онегин_опера.jpg"/>
          <p:cNvPicPr/>
          <p:nvPr/>
        </p:nvPicPr>
        <p:blipFill>
          <a:blip r:embed="rId1"/>
          <a:stretch/>
        </p:blipFill>
        <p:spPr>
          <a:xfrm>
            <a:off x="0" y="0"/>
            <a:ext cx="4786200" cy="56642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Leonid_Sobinov_4.jpg"/>
          <p:cNvPicPr/>
          <p:nvPr/>
        </p:nvPicPr>
        <p:blipFill>
          <a:blip r:embed="rId2"/>
          <a:stretch/>
        </p:blipFill>
        <p:spPr>
          <a:xfrm>
            <a:off x="4816440" y="0"/>
            <a:ext cx="4327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573120" y="28584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Издание оперы конца XIX 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950040" y="62118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Леонид Собинов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 роли Ленского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48" name="Прямая со стрелкой 16"/>
          <p:cNvCxnSpPr>
            <a:stCxn id="247" idx="3"/>
          </p:cNvCxnSpPr>
          <p:nvPr/>
        </p:nvCxnSpPr>
        <p:spPr>
          <a:xfrm flipV="1">
            <a:off x="3045960" y="6496920"/>
            <a:ext cx="1740600" cy="370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08:36:04Z</dcterms:created>
  <dc:creator>user</dc:creator>
  <dc:description/>
  <dc:language>en-US</dc:language>
  <cp:lastModifiedBy>таня</cp:lastModifiedBy>
  <dcterms:modified xsi:type="dcterms:W3CDTF">2012-01-28T14:33:27Z</dcterms:modified>
  <cp:revision>13</cp:revision>
  <dc:subject/>
  <dc:title>Пётр Ильич Чайковский</dc:title>
</cp:coreProperties>
</file>